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B52-C558-409B-BF50-B074869B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A05-F6DD-43B4-97C2-BF5E712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543-28E7-4022-B4C6-4B5BD176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D43-0C55-41AF-B8F8-FFD594C9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BFC-9245-417C-8562-45321C5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FC0-8DE6-4B6D-A391-A220F9DD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550-A26B-4D7B-B014-80A2478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000-3C4B-4483-AE7E-09ACF20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109-F1E1-43EA-A7D6-F7AB1D3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39C-06E9-4AE1-8A89-806AA5E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F0F-3294-41C8-BAC3-D97CB2EE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DB2-52AD-4A12-9F34-80C7151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EA3-7F25-47D2-99C9-9CB55723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mailto:scoala186ev@yahoo.com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Magnolia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- observa</a:t>
            </a: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ție fenologică 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60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66ffff"/>
                </a:solidFill>
                <a:latin typeface="Arial"/>
              </a:rPr>
              <a:t>Septembri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371600"/>
            <a:ext cx="72388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Proiect Comenius Virtual 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84040"/>
            <a:ext cx="8458200" cy="915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ŞCOALA CU CLS. I-VIII NR. 186 “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NA VĂCĂRESCU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” BUCUREŞ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. Stanislas Cihoschi, nr. 15, sector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n/fax: 021-3163630, e-mail: </a:t>
            </a:r>
            <a:r>
              <a:rPr b="0" lang="it-IT" sz="11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scoala186ev@yahoo.com</a:t>
            </a:r>
            <a:r>
              <a:rPr b="1" lang="it-IT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lang="ro-RO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ite : www.scoala186.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90720" y="228600"/>
            <a:ext cx="799920" cy="1028880"/>
            <a:chOff x="990720" y="228600"/>
            <a:chExt cx="799920" cy="1028880"/>
          </a:xfrm>
        </p:grpSpPr>
        <p:graphicFrame>
          <p:nvGraphicFramePr>
            <p:cNvPr id="47" name=""/>
            <p:cNvGraphicFramePr/>
            <p:nvPr/>
          </p:nvGraphicFramePr>
          <p:xfrm>
            <a:off x="1057320" y="297720"/>
            <a:ext cx="663480" cy="89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57320" y="297720"/>
                      <a:ext cx="66348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062360" y="307080"/>
              <a:ext cx="644400" cy="887400"/>
            </a:xfrm>
            <a:prstGeom prst="ellipse">
              <a:avLst/>
            </a:prstGeom>
            <a:noFill/>
            <a:ln w="76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990720" y="228600"/>
              <a:ext cx="799920" cy="1028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55673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Elena Văcărescu-poetă română de limbă franceză; "Ambasadoarea sufletului românesc în Franţa"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951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Încadrare sistematic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Încrengătura Magnoliophy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Clasa Magnoliop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Subclasa Magnoliid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Ordinul Magno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Familia Magnoliac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00"/>
                </a:solidFill>
                <a:latin typeface="Arial"/>
              </a:rPr>
              <a:t>Magnolia s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prind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rbori şi arbuşti răspândi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i ales în regiunile tropicale ş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ubtropicale, frecvent cultivaţi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giunile temperat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9621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bservație: luna septembrie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încadrării în stadiul de floare / fr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frunze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rolului frunz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Stabilirea persistenței / perenității frunzelor în cazul acestui tip de arb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scoarț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Observații asupra fructulu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1. Stabilirea stadiului de fruct sau de floare pe baza observației directe a copac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097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Arial"/>
              </a:rPr>
              <a:t>2. Observații asupra frunzelor: forma limbului, tipul de nervură, mar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Arial"/>
              </a:rPr>
              <a:t>3. Stabilirea rolului frunzelor pe baza prezenței clorofilei, ce conferă culoarea verde plan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60028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Încadrarea magnoliei în categoria copacilor cu frunze căzătoare sau persistente iarna pe baza caracteristicilor frunz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2600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5. Observarea scoarței copacului: culoare, prezența șanțurilor, adâncimea lor, grosimea scoarței, exfol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1950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Activităț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. Observarea fructului magnoliei: culoarea, suprafața, numărul și modul de dispu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. Observarea mirosului specific fructului desfă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. Încadrarea fructelor de magnolie la categoria celor necomestibile sau comest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2486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8:28:04Z</dcterms:created>
  <dc:creator>Felix</dc:creator>
  <dc:description/>
  <dc:language>en-US</dc:language>
  <cp:lastModifiedBy>Computer 5</cp:lastModifiedBy>
  <dcterms:modified xsi:type="dcterms:W3CDTF">2010-12-07T18:28:23Z</dcterms:modified>
  <cp:revision>6</cp:revision>
  <dc:subject/>
  <dc:title>Slide 1</dc:title>
</cp:coreProperties>
</file>